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3E6-73D9-4F2F-A5C7-6421CE23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76E-7A1F-477A-8E0A-C8A8F7B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4BE-151B-4FA7-8610-493F3D2F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700-98F7-42F6-B309-22FC3BC2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538-3C4E-4B79-8CA6-1300511C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FA3B-A292-4627-9BFB-8FCA5D8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A9B8-1A46-46CD-A7FD-F72342F2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839D-AAF3-4A3E-A8F3-50A7539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9F6E-E56E-4798-ADCC-2BF0A4B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4B1-C871-444C-82F9-3FDC7D8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F1E-6599-48B4-8FEE-A95536A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C51-8BF7-402F-B4EE-9AB4BAB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276A-F3E6-48CB-B4CC-6D7A588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CD0-17F4-46C3-9954-9E03319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B19-1729-48E8-91F6-BCE6C86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CBBC-540D-4A95-86B6-6B97EDFE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A1D2-AD88-49F5-BAD3-29837A4E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ADAE-9C6B-47B9-85A7-3D4DA0E7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6FB8-831A-4C43-BFA9-946DB41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C714-AAE5-45F1-9954-1AB6EE74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2F37-ABF4-486E-9EC0-65F00CB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4F01-4420-450B-88B1-6A51208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54F-B978-4D7D-8217-6B3A7E8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E0AD-14A1-4B01-9FCB-15FB5D1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0994-A8E7-4054-B52C-91BF6BD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8AAC-1853-4F1C-9141-F9267DB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671F-C0BE-4473-935D-0929223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0F75-B1D3-4EC9-BA58-CA4FCDB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3D60-2C4D-435D-9D9B-B50172EE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E887-CC4E-49C1-996E-A7E61B38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9BD0C-4051-4770-9285-F55F29B1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E4D6-50A7-4820-B2BD-5D1B5729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523F-1CC9-4403-8590-58CB59B7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0F0-BBD8-4A02-876F-14E3B00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DA83-1D56-4043-92CC-59D4BC3C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0BD1-6B0F-4AC5-8AE6-8CCB9E3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0F2D-00D5-4F7B-90CD-E60AED8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17EA-B4A0-4D00-B281-028D8E33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E0E8-E0DE-4CAD-A290-C15118E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7489-E318-4C02-B57D-A078ECD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67B9-33B3-4B70-AA10-209DA81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C9E7-E49E-4D1F-A3D4-CB65121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248E-2BDA-432F-9F10-46513377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682-7C83-440F-883D-BB12C80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4C2-87CA-49C3-A8AF-CC48E8F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35C-7AD6-4B99-8AB2-842638E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9AA-30D6-4353-AE71-EC3C500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192-10B7-4731-8975-FBE91C8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E34-9681-44F5-82F1-3FBFE806BB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B68-2EF8-4177-9A00-32E4B94C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B10-6573-41C9-862F-D36057FB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0C1-88EC-4CB6-821E-4D90F097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1714680"/>
            <a:ext cx="89298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КОШТАНИХ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CS" sz="1400" spc="-1" strike="noStrike">
                <a:solidFill>
                  <a:srgbClr val="ffffff"/>
                </a:solidFill>
                <a:latin typeface="Cambria"/>
              </a:rPr>
              <a:t>3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ециф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циф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ед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аз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дакт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ку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овлад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МАР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ич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zoom_Capitolo__6"/>
          <p:cNvPicPr/>
          <p:nvPr/>
        </p:nvPicPr>
        <p:blipFill>
          <a:blip r:embed="rId2"/>
          <a:stretch/>
        </p:blipFill>
        <p:spPr>
          <a:xfrm>
            <a:off x="1138320" y="3643200"/>
            <a:ext cx="2971800" cy="2557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500178-fx9"/>
          <p:cNvPicPr/>
          <p:nvPr/>
        </p:nvPicPr>
        <p:blipFill>
          <a:blip r:embed="rId3"/>
          <a:stretch/>
        </p:blipFill>
        <p:spPr>
          <a:xfrm>
            <a:off x="4643280" y="36432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НОЈ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з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ц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овла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ли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нат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ара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цидиви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ис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оли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ло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иг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т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ig%201"/>
          <p:cNvPicPr/>
          <p:nvPr/>
        </p:nvPicPr>
        <p:blipFill>
          <a:blip r:embed="rId2"/>
          <a:stretch/>
        </p:blipFill>
        <p:spPr>
          <a:xfrm>
            <a:off x="5435640" y="4441680"/>
            <a:ext cx="3060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49952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г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напредова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Subperiosteal%2Babscess%2Bwith%2Blingual%2Blocalization%2Bclinical%2Bphotograph"/>
          <p:cNvPicPr/>
          <p:nvPr/>
        </p:nvPicPr>
        <p:blipFill>
          <a:blip r:embed="rId2"/>
          <a:srcRect l="0" t="0" r="0" b="7142"/>
          <a:stretch/>
        </p:blipFill>
        <p:spPr>
          <a:xfrm>
            <a:off x="5357880" y="4786200"/>
            <a:ext cx="2708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бдев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Tooth_abscess_clip_image"/>
          <p:cNvPicPr/>
          <p:nvPr/>
        </p:nvPicPr>
        <p:blipFill>
          <a:blip r:embed="rId2"/>
          <a:stretch/>
        </p:blipFill>
        <p:spPr>
          <a:xfrm>
            <a:off x="5364000" y="3573360"/>
            <a:ext cx="3240360" cy="2889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Abces_parulique"/>
          <p:cNvPicPr/>
          <p:nvPr/>
        </p:nvPicPr>
        <p:blipFill>
          <a:blip r:embed="rId3"/>
          <a:stretch/>
        </p:blipFill>
        <p:spPr>
          <a:xfrm>
            <a:off x="5357880" y="12142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500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у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тс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оптер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figure_9"/>
          <p:cNvPicPr/>
          <p:nvPr/>
        </p:nvPicPr>
        <p:blipFill>
          <a:blip r:embed="rId2"/>
          <a:stretch/>
        </p:blipFill>
        <p:spPr>
          <a:xfrm>
            <a:off x="5429160" y="1571760"/>
            <a:ext cx="334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псцес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4857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периос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кољ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ној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жа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гађ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мандибу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fossa canin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ngulus mandibulae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abscess-bottom-chin"/>
          <p:cNvPicPr/>
          <p:nvPr/>
        </p:nvPicPr>
        <p:blipFill>
          <a:blip r:embed="rId2"/>
          <a:stretch/>
        </p:blipFill>
        <p:spPr>
          <a:xfrm>
            <a:off x="5214960" y="2143080"/>
            <a:ext cx="36432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одонтоге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5429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одонтог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 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г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ло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Mandibular+fractures"/>
          <p:cNvPicPr/>
          <p:nvPr/>
        </p:nvPicPr>
        <p:blipFill>
          <a:blip r:embed="rId2"/>
          <a:stretch/>
        </p:blipFill>
        <p:spPr>
          <a:xfrm>
            <a:off x="5857920" y="221472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и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5400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адек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лађ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то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Ipicturemandibularfracture"/>
          <p:cNvPicPr/>
          <p:nvPr/>
        </p:nvPicPr>
        <p:blipFill>
          <a:blip r:embed="rId2"/>
          <a:stretch/>
        </p:blipFill>
        <p:spPr>
          <a:xfrm>
            <a:off x="5857920" y="1643040"/>
            <a:ext cx="293040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ANd9GcQdbq5QLN6TXBab7O3-2DWBwN4gN5pEFQUAma9C_CwqYg-ZU9OSAbG6mg"/>
          <p:cNvPicPr/>
          <p:nvPr/>
        </p:nvPicPr>
        <p:blipFill>
          <a:blip r:embed="rId3"/>
          <a:stretch/>
        </p:blipFill>
        <p:spPr>
          <a:xfrm>
            <a:off x="5857920" y="4071960"/>
            <a:ext cx="2962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нтогене инфекције се могу поделити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. Апсцесе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. Флегм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Osteosarcoma+of+the+upper+jaw%252C+presenting+as+a+hard+swelling"/>
          <p:cNvPicPr/>
          <p:nvPr/>
        </p:nvPicPr>
        <p:blipFill>
          <a:blip r:embed="rId2"/>
          <a:stretch/>
        </p:blipFill>
        <p:spPr>
          <a:xfrm>
            <a:off x="4000680" y="2714760"/>
            <a:ext cx="465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јатр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3880" y="1643040"/>
            <a:ext cx="78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трог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о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матоло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с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б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т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ЧНИ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ptococcus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r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ептоко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напредова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узроков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овит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ДРАСЛ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витали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итис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fistula2"/>
          <p:cNvPicPr/>
          <p:nvPr/>
        </p:nvPicPr>
        <p:blipFill>
          <a:blip r:embed="rId2"/>
          <a:stretch/>
        </p:blipFill>
        <p:spPr>
          <a:xfrm>
            <a:off x="5257800" y="1676520"/>
            <a:ext cx="2743200" cy="2060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parulisTitle"/>
          <p:cNvPicPr/>
          <p:nvPr/>
        </p:nvPicPr>
        <p:blipFill>
          <a:blip r:embed="rId3"/>
          <a:stretch/>
        </p:blipFill>
        <p:spPr>
          <a:xfrm>
            <a:off x="5105520" y="3962520"/>
            <a:ext cx="32004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corpus 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ang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ram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large"/>
          <p:cNvPicPr/>
          <p:nvPr/>
        </p:nvPicPr>
        <p:blipFill>
          <a:blip r:embed="rId2"/>
          <a:stretch/>
        </p:blipFill>
        <p:spPr>
          <a:xfrm>
            <a:off x="5572080" y="3714840"/>
            <a:ext cx="2124000" cy="2523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d9GcR7YKgPMJJfCMC03NDhwHPJ1llkkN20U9DAGtxcF1wCMJr4HdoM"/>
          <p:cNvPicPr/>
          <p:nvPr/>
        </p:nvPicPr>
        <p:blipFill>
          <a:blip r:embed="rId3"/>
          <a:stretch/>
        </p:blipFill>
        <p:spPr>
          <a:xfrm>
            <a:off x="1285920" y="385776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вати до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љ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иоз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чун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gr3"/>
          <p:cNvPicPr/>
          <p:nvPr/>
        </p:nvPicPr>
        <p:blipFill>
          <a:blip r:embed="rId2"/>
          <a:stretch/>
        </p:blipFill>
        <p:spPr>
          <a:xfrm>
            <a:off x="609480" y="434340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33"/>
          <p:cNvPicPr/>
          <p:nvPr/>
        </p:nvPicPr>
        <p:blipFill>
          <a:blip r:embed="rId3"/>
          <a:stretch/>
        </p:blipFill>
        <p:spPr>
          <a:xfrm>
            <a:off x="5410080" y="44197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47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мф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рш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иш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л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димент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тит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ж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ра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орган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ли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и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лож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то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ylen-technetium-99 phosphon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и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ркул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к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ас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ч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љ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нер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Osteonecrosis_of_the_jaw"/>
          <p:cNvPicPr/>
          <p:nvPr/>
        </p:nvPicPr>
        <p:blipFill>
          <a:blip r:embed="rId2"/>
          <a:stretch/>
        </p:blipFill>
        <p:spPr>
          <a:xfrm>
            <a:off x="1785960" y="4357800"/>
            <a:ext cx="3189240" cy="2244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ar10429_fm-2"/>
          <p:cNvPicPr/>
          <p:nvPr/>
        </p:nvPicPr>
        <p:blipFill>
          <a:blip r:embed="rId3"/>
          <a:stretch/>
        </p:blipFill>
        <p:spPr>
          <a:xfrm>
            <a:off x="5786280" y="4143240"/>
            <a:ext cx="2105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5214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е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неуматиз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нги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бити узр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о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ара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JInterdiscipDentistry_2011_1_1_41_77205_f4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f7c8363a14"/>
          <p:cNvPicPr/>
          <p:nvPr/>
        </p:nvPicPr>
        <p:blipFill>
          <a:blip r:embed="rId3"/>
          <a:stretch/>
        </p:blipFill>
        <p:spPr>
          <a:xfrm>
            <a:off x="5638680" y="1447920"/>
            <a:ext cx="2362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4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вест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ниг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 infraorbitali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енератив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аб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чврс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тр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тљ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уко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ој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маркацио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коронар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60490"/>
          <p:cNvPicPr/>
          <p:nvPr/>
        </p:nvPicPr>
        <p:blipFill>
          <a:blip r:embed="rId2"/>
          <a:stretch/>
        </p:blipFill>
        <p:spPr>
          <a:xfrm>
            <a:off x="518148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нтиби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о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и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4496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енаж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ље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мар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т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ирети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2528951_eplasty08e45_fig3"/>
          <p:cNvPicPr/>
          <p:nvPr/>
        </p:nvPicPr>
        <p:blipFill>
          <a:blip r:embed="rId2"/>
          <a:stretch/>
        </p:blipFill>
        <p:spPr>
          <a:xfrm>
            <a:off x="4929120" y="1857240"/>
            <a:ext cx="376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с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гностик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овољ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-20170440" y="-23477400"/>
            <a:ext cx="2936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ože nastati kao sekundarn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8342280" y="-23477400"/>
            <a:ext cx="394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 forma nakon akutnog osteomijelitisa ili da 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-20547360" y="-5722920"/>
            <a:ext cx="45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-12351600" y="-5722920"/>
            <a:ext cx="143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tka im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-4392000" y="-5722920"/>
            <a:ext cx="516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 tok. Akutni osteomijelitis je danas mnogo redji, dok je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8720080" y="-5722920"/>
            <a:ext cx="97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i mn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-20546640" y="12031920"/>
            <a:ext cx="26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-13619160" y="12031920"/>
            <a:ext cx="48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š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-12054960" y="12031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. Usled primene antibiotika, u s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8744040" y="12031920"/>
            <a:ext cx="353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jevima kada je akutni osteomijelitis kas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-20562120" y="29786400"/>
            <a:ext cx="611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ijagnostikovan, ili kada se daju nedovoljne doze antibiotika, prelazi u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26332920" y="29763360"/>
            <a:ext cx="95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u form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osteomyelitis1355190511294"/>
          <p:cNvPicPr/>
          <p:nvPr/>
        </p:nvPicPr>
        <p:blipFill>
          <a:blip r:embed="rId2"/>
          <a:stretch/>
        </p:blipFill>
        <p:spPr>
          <a:xfrm>
            <a:off x="1643040" y="4286160"/>
            <a:ext cx="5551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5480" y="1285560"/>
            <a:ext cx="8643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т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клаће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вид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п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Picture6"/>
          <p:cNvPicPr/>
          <p:nvPr/>
        </p:nvPicPr>
        <p:blipFill>
          <a:blip r:embed="rId2"/>
          <a:stretch/>
        </p:blipFill>
        <p:spPr>
          <a:xfrm>
            <a:off x="838080" y="4419720"/>
            <a:ext cx="3200400" cy="2106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1048885-1092133-1909"/>
          <p:cNvPicPr/>
          <p:nvPr/>
        </p:nvPicPr>
        <p:blipFill>
          <a:blip r:embed="rId3"/>
          <a:stretch/>
        </p:blipFill>
        <p:spPr>
          <a:xfrm>
            <a:off x="4800600" y="4419720"/>
            <a:ext cx="3200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актерист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рац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ен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вет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ој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ир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рет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c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26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осе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лифератив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т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68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ст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бјекти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го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чу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ушкаст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озна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ул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е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иметр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fig1"/>
          <p:cNvPicPr/>
          <p:nvPr/>
        </p:nvPicPr>
        <p:blipFill>
          <a:blip r:embed="rId2"/>
          <a:stretch/>
        </p:blipFill>
        <p:spPr>
          <a:xfrm>
            <a:off x="4857840" y="4357800"/>
            <a:ext cx="2590560" cy="2222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kyste-maxillaires"/>
          <p:cNvPicPr/>
          <p:nvPr/>
        </p:nvPicPr>
        <p:blipFill>
          <a:blip r:embed="rId3"/>
          <a:stretch/>
        </p:blipFill>
        <p:spPr>
          <a:xfrm>
            <a:off x="1500120" y="4357800"/>
            <a:ext cx="2619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ре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зи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л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скулар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рокомор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егмона је један од облика акутног дифузног, пурулентно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запаљењ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 захвата све слојеве ткива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рг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без јасно одређених граница између здравог и упаљеног ткива, по чему се разликује од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ц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ји има јас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ран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ако се класична флегмона сматра инфекцијом без формирања апсцеса или гнојења и без улцерација, у клиничкој пракси, подела између флегмоне и апсцеса понекад није сасвим јасн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ARRE</a:t>
            </a:r>
            <a:r>
              <a:rPr b="1" i="1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sr-CS" sz="18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специфич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ус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зрел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ртик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rre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-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гној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ерплаз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клеротич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узрокова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знач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лен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афилокок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лон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071720"/>
            <a:ext cx="8929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шће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мо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ц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фицијен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лож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цирају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Osteonecrosis%20jaw"/>
          <p:cNvPicPr/>
          <p:nvPr/>
        </p:nvPicPr>
        <p:blipFill>
          <a:blip r:embed="rId2"/>
          <a:stretch/>
        </p:blipFill>
        <p:spPr>
          <a:xfrm>
            <a:off x="2214720" y="4500720"/>
            <a:ext cx="5305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аж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узе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илакти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радионекр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рх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нгрен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-1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3707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ИН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ас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рињ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сигур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њ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fig07-radio-of-fract"/>
          <p:cNvPicPr/>
          <p:nvPr/>
        </p:nvPicPr>
        <p:blipFill>
          <a:blip r:embed="rId2"/>
          <a:stretch/>
        </p:blipFill>
        <p:spPr>
          <a:xfrm>
            <a:off x="4857840" y="4857840"/>
            <a:ext cx="2741400" cy="178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ANd9GcTb85_jrzYRslTq8TLj3ypvv0iiMIvAOSI5P32OHp5aEgdfF1NX"/>
          <p:cNvPicPr/>
          <p:nvPr/>
        </p:nvPicPr>
        <p:blipFill>
          <a:blip r:embed="rId3"/>
          <a:stretch/>
        </p:blipFill>
        <p:spPr>
          <a:xfrm>
            <a:off x="1571760" y="4857840"/>
            <a:ext cx="29289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560" y="1071360"/>
            <a:ext cx="8715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ојч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чет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озн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ш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неми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мог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у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ANd9GcQuM2eEHQXf3nIJ91VbPT-m3yxq2fO-cDIGlKQHWLQfVQsId-Pp"/>
          <p:cNvPicPr/>
          <p:nvPr/>
        </p:nvPicPr>
        <p:blipFill>
          <a:blip r:embed="rId2"/>
          <a:stretch/>
        </p:blipFill>
        <p:spPr>
          <a:xfrm>
            <a:off x="1928880" y="4626000"/>
            <a:ext cx="2274840" cy="1994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flemingk"/>
          <p:cNvPicPr/>
          <p:nvPr/>
        </p:nvPicPr>
        <p:blipFill>
          <a:blip r:embed="rId3"/>
          <a:stretch/>
        </p:blipFill>
        <p:spPr>
          <a:xfrm>
            <a:off x="4857840" y="4572000"/>
            <a:ext cx="20574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ШТАНИХ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КИВА</a:t>
            </a:r>
            <a:br>
              <a:rPr sz="28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г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и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о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стопат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раж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е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сел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рс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мед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лкман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аверз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утри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териш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п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мб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еверзиби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гиоз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з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а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ер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ш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бде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уна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ђ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р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тори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броз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ложе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фер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entral_ossifying_fibroma-141C8C93BCF5550340A"/>
          <p:cNvPicPr/>
          <p:nvPr/>
        </p:nvPicPr>
        <p:blipFill>
          <a:blip r:embed="rId2"/>
          <a:stretch/>
        </p:blipFill>
        <p:spPr>
          <a:xfrm>
            <a:off x="2000160" y="4929120"/>
            <a:ext cx="2357640" cy="15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ontempClinDent_2012_3_5_103_95117_f8"/>
          <p:cNvPicPr/>
          <p:nvPr/>
        </p:nvPicPr>
        <p:blipFill>
          <a:blip r:embed="rId3"/>
          <a:stretch/>
        </p:blipFill>
        <p:spPr>
          <a:xfrm>
            <a:off x="4786200" y="4929120"/>
            <a:ext cx="24289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400" y="13568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створ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д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њ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 секвес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м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а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б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ак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и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нифес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ал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лабљ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ек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пен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гро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гиопат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бетич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1:21:47Z</dcterms:modified>
  <cp:revision>748</cp:revision>
  <dc:subject/>
  <dc:title>Diapositiva 1</dc:title>
</cp:coreProperties>
</file>